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515-C8F5-4789-9B58-B397C7AD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D25-D0CA-41E9-AD0D-2CFE928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70C-EAF9-42ED-A675-73107AE3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3CA-BF3F-44CE-9365-C63C4AFE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F28-C3E4-448A-93DA-404C8AD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68F-0E29-40AE-94C4-8A1BAE56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69E-1845-4D9A-BAAB-B04A8C65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289-43E1-49C9-9BDD-48239489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D5A-601D-4C06-9606-04E98B1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F97-319C-4DA1-B5F2-9D396F4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E21-555B-4DB9-B5EE-38B66AC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231-06B0-4912-87F9-E058EFF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855-53B2-4477-BF9B-571A1421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5 Pán Ježiš je predi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ezmedzne žehná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láskavý otec len v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, čo dosiaľ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milos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 úst mojich veleba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blíži sa nádher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ítania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 sláve a moci má prí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 svadobnom rú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á mi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 ústrety radostne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predi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zo mňa sňal bremeno ví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pasenia večn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zárukou je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únavou pa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víha ma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ríž môj mi pomáha n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lého sa ob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m u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vet chce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hriechu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3-09T07:27:43Z</dcterms:modified>
  <cp:revision>19</cp:revision>
  <dc:subject/>
  <dc:title>Je veľký náš Pán, on slávy je Kráľ Nech do všetkých strán  spev vrúcnych znie chvál.</dc:title>
</cp:coreProperties>
</file>